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8D6BF-9749-4F75-AB41-F26B49B7B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B9797-3513-4E2D-A127-172C0DD7C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91CA3-60AD-4F19-9676-0C2531F5E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1043A-84E6-4AD6-B368-70B1C1BEB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334F7B-AAB1-4182-9F6C-377A7CD33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2B04C-ACC1-418C-B22F-A59CEB5D7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32AF9-B464-4E21-9E0D-80FE32AF7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94DF2-D662-4FDD-8F44-6CB1FEDB1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FA376-1CDA-4633-B728-C7BA851DB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94AC6-F7A9-44D2-850B-44845D354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7C543-EC53-412F-A0D6-9A2464C9F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74C28-075A-4A60-988D-D6D41CEAC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528CF-C864-480E-9786-9517AB212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D131C-6B0F-42B0-8F75-EE2B03DD4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D83F48-ECDB-45F9-A979-0C05000BF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00208C-AD52-4120-90D0-E54063E94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BBE47-1D59-441A-8A09-7D2B3D18D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6A970-A646-4A08-BDCB-DA905A15E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06659-D1E8-463F-9402-49FC30153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93B26-14EC-4BA6-8CFE-88FA2C422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6FE96-033E-41CF-9079-B6569191B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23591-9305-431E-8C35-D7A10DCAD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254FD-D342-4764-B015-5D9489125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41B5D-5934-4466-86C7-2442DAB81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298E4-F3E1-4EA8-8EE6-DD170ACC6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04AA8-7434-478D-9C4A-30A49A7F1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F9A8C-9625-43AA-B0F2-FF4A0041E6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E50AD-3DE9-4F71-91C2-F99A29DB1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2F509-BA42-48B0-9C8C-6588E11EE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8D0724-E9DC-4CCD-9116-86854FA95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A359A-881E-4C82-9F37-8165F2B08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1067A-E102-4553-BE36-F3349A23F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4F9A8-4BD0-42CB-ABCF-96C6723B2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972C8-A2BE-40B7-B95A-50DCBF666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32CFB-ED05-402F-B4E7-BF9834839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2B83D-B4DF-44CF-A7D9-E86B90DC2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3F97E-5391-4E24-A232-AB8F1C354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41AC9-428B-4D76-80B8-F897D4DFD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AFE26-4FBD-48F7-B63F-F61ACA3A4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435-5064-44CD-B616-929DBE72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1D97-51A1-4974-9098-FE1175B7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E5EF-5006-4280-90B1-08361161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8D3-472F-4763-B970-8A6FFDED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81D-874F-4ED5-A0F9-97D87843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C0CD-6245-477D-B65A-E8F82A63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6C1-7CA3-4B1B-BEAE-5CA6F909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00DD-F89A-4F8D-82A0-DA6D6D4F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3B54-EA8B-43C9-A33A-F830E23B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222E-A9D6-4C82-90F9-BBDB8A9E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2538-62E8-4A0E-B813-114BCDFC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27F-6B3D-4AE3-86D9-436D720E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86FCD-B41B-4D24-8217-4F9C7D5562F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50" name="Picture 3" descr="bg.jpg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maxinars6.png"/>
          <p:cNvPicPr/>
          <p:nvPr/>
        </p:nvPicPr>
        <p:blipFill>
          <a:blip r:embed="rId2"/>
          <a:stretch/>
        </p:blipFill>
        <p:spPr>
          <a:xfrm>
            <a:off x="0" y="0"/>
            <a:ext cx="9144000" cy="3054240"/>
          </a:xfrm>
          <a:prstGeom prst="rect">
            <a:avLst/>
          </a:prstGeom>
          <a:ln w="0">
            <a:noFill/>
          </a:ln>
          <a:effectLst>
            <a:outerShdw dist="76320" dir="54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2" name="TextBox 5"/>
          <p:cNvSpPr/>
          <p:nvPr/>
        </p:nvSpPr>
        <p:spPr>
          <a:xfrm>
            <a:off x="2618640" y="360036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HAMP &amp; BANKRUPT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547280" y="4410000"/>
            <a:ext cx="605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Arial Black"/>
              </a:rPr>
              <a:t>Including Supplemental Directives 10-01 &amp; 10-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hamp logo.tiff"/>
          <p:cNvPicPr/>
          <p:nvPr/>
        </p:nvPicPr>
        <p:blipFill>
          <a:blip r:embed="rId3"/>
          <a:srcRect l="641" t="6953" r="734" b="4853"/>
          <a:stretch/>
        </p:blipFill>
        <p:spPr>
          <a:xfrm>
            <a:off x="1413000" y="5479920"/>
            <a:ext cx="6327720" cy="63360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Supplemental Directive 10-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14360" y="1294920"/>
            <a:ext cx="82296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MP second mortgage program requires a second Servicer participation agreement and only a few Servicers have signed these agre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first mortgage gets a permanent HAMP modification, then the 2MP Servicer is required to modify the 2nd under the 2MP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st course of action is to strip the 2nd for no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rective was updated on March 26, 2010 to cover the 2MP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HAMP Highlight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Supplemental Directives 10-01 &amp; 10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0200" y="1490760"/>
            <a:ext cx="822960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FOR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eddie is assig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dit and compliance rol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calation proces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rd party beneficiary claim of action by Debtor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bility to go before the Court and to use as leverage against Servicer to respond to HAMP request for TPP or MP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irectives provide no direct cause of action or directly reme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HAMP and Bankruptcy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14360" y="16045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btors cannot be discriminated again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cause they are in a Chapter 7, 11, 12 or 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rs must continue to work with Debtors notwithstanding Bankrupt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n contact Debtors about modification, not a 362(a) vio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annot forecl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ending evaluation for HA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HAMP and Bankruptcy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14360" y="16048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quest may be made by debtor, debtor’s counsel or the Chapter 13 Trustee may submit the initial HAMP requ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rs ar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NOT require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actively solicit debtors in bankrupt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ust be some procedure t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odify monthly paym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a Chapter 13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HAMP and Bankrupt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14360" y="16045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lieu of the standard HAMP Package, bankruptcy Debtor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an submit schedul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 &amp; J and A &amp; B &amp; C as well as tax returns in lieu of 4506T if less than 90 days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m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schedules if more than 90 days o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HAMP and Bankrupt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14360" y="16048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addition to Schedules and Tax Returns, Debtor may subm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y advises or pay stu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TD income on pay stubs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&amp;L statements for self-employed deb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 should be readily available because already required by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Supplemental Directive 10-0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&amp; Bankrupt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14360" y="16048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nkruptcy Debtors should probably submit the additional HAMP TPP documentation just to be sure they have submitted all of the required financia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submit the actual Tax Returns, no need to redact any of the personal identifiers but probably the best course of action to redact (names of the childre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Supplemental Directive 10-0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&amp; Bankrupt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14360" y="16048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Default Mitigation Management Web portal for submitting loan modification documents to Servic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OA and Wells are actively using this site to process modif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achovia is not using this system at this ti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te is operated by Joe Lee in Kentucky www.dclmwp.c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HAMP and Bankrupt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14360" y="16045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r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y wai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ial Period Modification and go directly to the Permanent Mod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btor must make post-petition mortgage payments of which at least three are equal to or greater than the proposed modified am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ust b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pprove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y Bankruptcy Court after notice and hea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PP must b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aive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y the Master Servicer or the T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HAMP and Bankrupt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14360" y="1604520"/>
            <a:ext cx="82296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btors in TPP when filing bankruptcy cannot be denied a permanent Modificat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olel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cause of the 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rs must work with Trustees, Debtors and Debtors’ counsel to make thi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29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PP must be extended, if necessary, to secure court appro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ervicer may also be required to go back into the bankruptcy court and modify an order that granted total relief from the st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Supplemental Directive 10-0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&amp; Bankrupt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4360" y="16048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MP is a contractual relationship between servicers and Department of the Treasury set-up through Fannie Mae and enforced by Freddie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btor is clearly a third-party beneficiary of these contracts and has the right to enfo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easury has a list of all Servicers who have signed these participation agreements.  www.financialstability.g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0-01 &amp; 10-02 became effective on June 1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4360" y="-3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HAMP and Bankrupt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14360" y="69480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If Chapter 13 Debtor made all post-petition payments to cover TPP payments, Servicer may not, based upon these payment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Object to confirmation not based on TPP payment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Seek relief from automatic stay on TPP payments; 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Seek dismissal of the case based on TPP paymen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If Chapter 7 discharged, reaffirmation is </a:t>
            </a:r>
            <a:r>
              <a:rPr b="0" lang="en-US" sz="2100" spc="-1" strike="noStrike">
                <a:solidFill>
                  <a:srgbClr val="ffff00"/>
                </a:solidFill>
                <a:latin typeface="Arial"/>
                <a:ea typeface="Arial"/>
              </a:rPr>
              <a:t>not required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 for HAMP and Debtors do not gain liability with a HAMP modification.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gram guidelines state that following language must be added to the mod making it non-recourse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 was discharged in a Chapter 7 bankruptcy proceeding subsequent to the execution of the Loan Documents. Based on this representation, Lender agrees that I will not have personal liability on the debt pursuant to this Agreement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HAMP and Bankrupt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14360" y="1294920"/>
            <a:ext cx="82296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new Schedules are required for HAMP, because more than 90 days old, they must be updated but not necessarily filed with the Bankruptcy Cou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btors must sign the new Schedules under penalty of perjury and should be supported by the two pay ad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btor’s attorney should be attentive to providing all necessary documentation and give as much detail as possible and additional information that is avail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 sure to use new HAMP TPP number in the amended Sched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Effect on Chapter 13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14360" y="167760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 Chapter 13 plan provision must take HAMP process account and provide for TPP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 not include a pre-petition arrearage since covered by HA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ly contingency making the 3 TPP pay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only applied for TPP, contingency would be the approval within the 30 day peri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Effect on Chapter 13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14360" y="1677600"/>
            <a:ext cx="822960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pter 13 plan provisio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MM must be approved by the Court and the Plan will not be res judicata if the TPP is pending when the plan is confirmed as to the HAMP P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yments to Trustee in a conduit plan count as TPP payments when made and not disbursed by the Trust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the PMM is denied, debtor must move to modify Plan under 132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Effect on Chapter 13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14360" y="1677600"/>
            <a:ext cx="822960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btor’s attorney may ask for an additional fee for HAMP mod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fees will be up to the Court for approval and should be included with the motion to approve the P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re are currently no no-look fees for this type of work.  It would be a two part fixed fee — application process part I and approval of PMM part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Effect on Chapter 13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14360" y="16776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ny servicers have designated local counsel to deal with the HAMP modifications as local contacts to process the HAMP doc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eck with your local attorneys on this m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yments provided for in the Plan on the first mortgage should be consistent with the HAMP PMM pay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Effect on Chapter 13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06440" y="158112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r may not charge any fees for a HAMP modification and must waive all late fees and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btor may apply for a HAMP modification even if 13 Plan is already confirmed with no prior H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d, if Debtor gets PMM, the plan would have to be amended under 1329 to take PMM into account and court approval i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r would also have to amend POC in or the debtor would need to object to remove the arr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Effect on Chapter 13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14360" y="16776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pter 13 Trustees will probably not seek increase in the plan payments under 1329 upon a HAMP mod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31% of gross income is being applied to the mortgage, then the chances of additional money for the unsecured creditors is highly unlik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prohibition on such actions by the Trustees but the 31% gross income is a good defense to such motions since most educational programs recommend around 20% of gross as the maximum mortg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Effect on Chapter 13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14360" y="1294920"/>
            <a:ext cx="82296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me Chapter 13 Trustees by local rules have been given authority to approve HAMP modifications.  Court approval in a 7 could be a problem unless you move to delay the discharge or closing of the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me-frames in 10-02 include both business days and calendar days at different places with the benchm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bg.jpg"/>
          <p:cNvPicPr/>
          <p:nvPr/>
        </p:nvPicPr>
        <p:blipFill>
          <a:blip r:embed="rId1"/>
          <a:stretch/>
        </p:blipFill>
        <p:spPr>
          <a:xfrm>
            <a:off x="0" y="-177840"/>
            <a:ext cx="9144000" cy="70358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Debtor invokes and intends for these plan provisions to invoke and to reserve rights under the provisions of 11 U.S.C. Section 524(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2280" y="238248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Postpetition Mortgage Pay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ll be applied and credited to debtors’ mortgage accou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s if account were current and no prepetition default exis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n the petition date in the order of priority specified in the note and security agreement and applicable non-bankruptcy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hall be applied and credite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ithout penal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made in a timely manner under the terms of the n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HAMP Highlight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Supplemental Directives 10-01 &amp; 10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14360" y="14425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lies t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ll loa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d by Participating Servicers. For non-Fannie/Freddie loans, if PSA prohibits any aspect of HAMP, servicer must seek waiver from investor, and is excused from HAMP requireme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onl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waiver cannot be ob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btor can’t be put into a trial period payment plan until determined to be eligible and submitted docu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quest for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RS Form 4506-T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vidence of Income (2 pay invoices within past 60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bove documents comprise the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Initial Pack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Debtor invokes and intends for these plan provisions to invoke and to reserve rights under the provisions of 11 U.S.C. Section 524(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2280" y="2382480"/>
            <a:ext cx="82296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Postpetition Payment Chan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rs shall mak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djustments to the ongoing installment payme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mount as required by the note and security agreement and applicable non-bankruptcy law, including changes based on a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scrow analys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r based on an interest rate provision in an 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r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hall timely notify the debtors of such payment adjustm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d any shortage, deficiency or surplus of funds in any escrow ac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Debtor invokes and intends for these plan provisions to invoke and to reserve rights under the provisions of 11 U.S.C. Section 524(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2280" y="2382480"/>
            <a:ext cx="82296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Prepetition Arreara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yments disbursed by the trustee shall be applied and credited only to prepetition arrearage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necessary to cure the defaul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consisting of amounts listed on the allowed POC and authorized by the note and security agreement and applicable non-bankruptcy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pon confirmation the holder/servicer shall treat the mortgag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s if contractually curre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the purpose of assessing or adding any additional fees or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Debtor invokes and intends for these plan provisions to invoke and to reserve rights under the provisions of 11 U.S.C. Section 524(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22280" y="2382840"/>
            <a:ext cx="8229600" cy="33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ortgage Holder/Servicer Oblig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holder/servicer of claim shall provide debtor 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notic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f any fees, expenses or charges which have accrued during the bankruptcy case and which holder/servicer contend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) allowed by the note and security agreement and applicable non-bankruptcy law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) recoverable against the debt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Debtor invokes and intends for these plan provisions to invoke and to reserve rights under the provisions of 11 U.S.C. Section 524(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2280" y="2382840"/>
            <a:ext cx="8229600" cy="31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ortgage Holder/Servicer Obligation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notice shall b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ent annu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beginning within 30 days of the date one year after entry of the initial plan confirmation order, and each year thereafter during the pendency of the case, with 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inal notice sent within 30 days of the filing of the trustee’s final accou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er Bankruptcy Rule 500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Debtor invokes and intends for these plan provisions to invoke and to reserve rights under the provisions of 11 U.S.C. Section 524(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22280" y="23824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Discharge of Security Inter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cured creditors’ liens on personal property will be release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he earli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f the date the debt is paid in full under non-bankruptcy law or the debtor is granted discharge under §132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reditor shall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ithin 3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ys of receipt of the notice of the entry of the Discharge Order, execute a release of its security interest on said title or certificate and mail or deliver to debtor or debtor’s attorne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Debtor invokes and intends for these plan provisions to invoke and to reserve rights under the provisions of 11 U.S.C. Section 524(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14360" y="236808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Discharge of Security Interest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firmation of this plan shall impose a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ffirmative and direct du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n each secured party to comply with the provision and shall be enforced in a proceeding filed before the Bankruptcy Court and each such creditor consents to such jurisdiction by failure to file any timely objection to this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ch an enforcement proceeding may be filed by the debto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before or af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ry of discharge order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before or af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closing of this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Debtor invokes and intends for these plan provisions to invoke and to reserve rights under the provisions of 11 U.S.C. Section 524(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14360" y="236808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Discharge of Security Interest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btor specifically reserves the right to file 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otion to re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this case under 11 U.S.C. Section 3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Debtor invokes and intends for these plan provisions to invoke and to reserve rights under the provisions of 11 U.S.C. Section 524(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14360" y="236808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ortgage Modification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accordance with the HAMP Supplemental Directive 10-02, the debtor hereby notifies the holder/servicer of a mortgage claim of their intent to seek an analysis as set forth in Directive 10-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rther, that holder/servicer’s counsel accepts service of required submissions from debtor to facilitate compliance, and assist the Bankruptcy Court, Trustee and debtor through this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Addi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14360" y="16048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ww.hampadmin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ww.nacttacademy.com  Norma Hammes has a 7 page doc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calation@hampadmin.com HAMP Compliance office for problems with Servicer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ww.considerchapter13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HAMP Highlight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Supplemental Directives 10-01 &amp; 10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14360" y="1604880"/>
            <a:ext cx="822960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r mus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nfirm receip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f the Package in writing within 10 business days of rece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ust revie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mitted documents for completeness within 30 days of rece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not complete, mus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end an incomplete notic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d give 30 days to complete and another 15 days on a second attempt to make comp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complete, servicer must se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rial Period Plan notic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 the new payment and the term of the trial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HAMP Highlight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Supplemental Directives 10-01 &amp; 10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14360" y="16045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debtor makes payments, they should receive 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ermanent Modification Docume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be signed and appr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MP documents must b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igned by ALL parti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o signed the original loan docu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ceptional circumstances to excuse signatures include such things as mental incapacity or military service or contested divo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HAMP Highlight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Supplemental Directives 10-01 &amp; 10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2280" y="1450800"/>
            <a:ext cx="822960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not eligible, or a negative NPV, then Servic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ust send not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to the consumer of the same and comply with Supplemental Directive 09-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orrower has the option to request reconsideration if status has chang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orrower may ask for information about how servicer calculated NP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r must consider the borrower for other loss mitigation programs offered per the Pooling &amp; Servicing Agreement Loss Mitiga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btor ha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right to contest NPV nu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HAMP Highlight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Supplemental Directives 10-01 &amp; 10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14360" y="16045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annot forecl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ending evaluation for HA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foreclosure in process at time borrower submits TPP with verified income, Servicer must halt foreclosure while TPP is evalu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r must provide Debtor with detailed explanation as to extent and nature of foreclosure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 Rules apply to a TPP that ha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NO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en approved by June 1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HAMP Highlight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Supplemental Directives 10-01 &amp; 10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14360" y="16048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rs must have supervisors in place for the HAMP tech that is handling TPP or 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problems with the tech, ask for the Supervis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this does not work, email to esca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bg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4360" y="268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HAMP Highlight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Supplemental Directives 10-01 &amp; 10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14360" y="1677600"/>
            <a:ext cx="822960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r not required to forebear greater than 30% of the unpaid principal balance after capitalization of the arrears under the standard HAMP waterf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r not required to forebear greater than an amount that would result in a mark-to-market LTV of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4:56:51Z</dcterms:created>
  <dc:creator>me</dc:creator>
  <dc:description/>
  <dc:language>en-US</dc:language>
  <cp:lastModifiedBy>user1</cp:lastModifiedBy>
  <dcterms:modified xsi:type="dcterms:W3CDTF">2010-07-20T20:24:09Z</dcterms:modified>
  <cp:revision>154</cp:revision>
  <dc:subject/>
  <dc:title>Slide 1</dc:title>
</cp:coreProperties>
</file>